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8CA-F07A-446A-8AAE-B76895C2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022-683C-469F-8FAA-CCB334C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04B-549B-4D34-8BD8-C872BBCD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A97-4C78-491E-90CA-74AF3374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791-2C88-4327-A63C-73AEFD04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B91-75D6-4276-AC4F-3C8A81B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35C-C21C-40D1-870F-A5096FF1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A2F-98C1-43AA-AECD-A5B6ED70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E93-F9ED-4B44-B511-7866E3C5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01A-7A54-48DC-A030-BE843E0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DFF-88A9-47F7-962F-3F4CA6E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0A1-970C-4CE0-AE65-3C7E1A6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FE60-4E30-4850-A71F-F12D9BD90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NEW2Tonawanda%20Intermediate%20PI%20Trend%20Map%202006-2008.xls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850680"/>
            <a:ext cx="6400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hort 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Master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ocument with Secure 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-10152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s of energy and transformations (electricity, heat release, interactions between matter and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(gravity, magnetism, mechanical, simple machines, through solids and liq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processes and living vs. non-living (life cycle and span, evidence, growth and re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elationships of living things (plants, animals, decomposers, sun, food chains and w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evolution (traits, characteristics, reproduce, similarities and dif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Equilibrium (survival, response to outside change) and being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and ecology (how we have changed the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836360"/>
            <a:ext cx="685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098720"/>
            <a:ext cx="6132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8915400" cy="678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068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ong 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hesive Curricular Plan 5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ure Concepts/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mmon Summative Assessments around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dd Cor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-visi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2880" y="30492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3581280"/>
            <a:ext cx="158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9810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661760"/>
            <a:ext cx="67532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 you were teach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took your chart paper and tallied what you were teaching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2208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’s Look at th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738720"/>
            <a:ext cx="6858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9072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238464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5228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16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—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Living Environment)—accelerate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09680"/>
            <a:ext cx="83818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ther and tools (temp., wind speed and direction, precipitation and water cycle, erosion and deposition, weath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and seasonal changes (rotation vs. r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material and chemical and physical changes, states of matter (Matter, mass, space, properties skills, reactivity and reflectiveness, sink/float, conductivity, magnetism, tools, observ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Daigler</cp:lastModifiedBy>
  <dcterms:modified xsi:type="dcterms:W3CDTF">2008-12-08T19:08:24Z</dcterms:modified>
  <cp:revision>9</cp:revision>
  <dc:subject/>
  <dc:title>Slide 1</dc:title>
</cp:coreProperties>
</file>