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5C2-B4F0-44A2-BB85-B4E38194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342-4A00-42D1-B104-0FB04921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B02-9B12-46CD-A1B1-10459F96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302-7FB0-42C9-87B6-797F4F6F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6CD-6FC2-4335-9CFC-2706F188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799-13B4-4753-A7C5-42F66A96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907-FC19-473A-8156-C0A01FF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CC2-9AFD-485D-961C-C77BCFD8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50B-E62A-41A6-A5AE-70022A7D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F23-6188-4B19-8396-6E1BF0F7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034-479F-435C-8A68-62EF933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FE6-ABE2-4A6D-85EC-BE91A94C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6CAC-CB38-4A85-B2E9-DCF97026E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NEW2Tonawanda%20Intermediate%20PI%20Trend%20Map%202006-2008.xls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850680"/>
            <a:ext cx="6400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hort ter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 Master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dju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Document with Secure 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18907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90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-101520"/>
            <a:ext cx="9144000" cy="7721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305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s of energy and transformations (electricity, heat release, interactions between matter and ener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ces (gravity, magnetism, mechanical, simple machines, through solids and liq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e processes and living vs. non-living (life cycle and span, evidence, growth and re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elationships of living things (plants, animals, decomposers, sun, food chains and w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evolution (traits, characteristics, reproduce, similarities and differe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Equilibrium (survival, response to outside change) and being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and ecology (how we have changed the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1836360"/>
            <a:ext cx="6858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1098720"/>
            <a:ext cx="6132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we need to make modific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42588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y/Secure/Extension at what grade(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33720" y="1623960"/>
          <a:ext cx="5486400" cy="3481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MENTAL  LEV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ginn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first exposed to the skill through heavy teacher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ing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have knowledge, begin independent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practice skill independently and demonstrate security with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ns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expected to apply skill independently, flexibly, and appropriately, without prompting from tea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re challenged to be reflective about their practice and evaluative of their metacognitive practices in order to reinforce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76200" y="1426320"/>
            <a:ext cx="672480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Benchmarks – Sec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3168720"/>
            <a:ext cx="24192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080" y="1526760"/>
            <a:ext cx="61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skill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1771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8915400" cy="678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76068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ong 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hesive Curricular Plan 5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ure Concepts/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reate Common Summative Assessments around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iculum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dd Core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-visi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2880" y="30492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3581280"/>
            <a:ext cx="1587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19810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Last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1768320"/>
            <a:ext cx="18288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1661760"/>
            <a:ext cx="675324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le you were teach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took your chart paper and tallied what you were teaching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n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04760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6520" y="22086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’s Look at the MASTER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175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738720"/>
            <a:ext cx="6858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Look at trends…is there “scaffolded” learning in trended are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6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99072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Gap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152280"/>
            <a:ext cx="8610480" cy="655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2384640"/>
            <a:ext cx="685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 there unneeded Repet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52280"/>
            <a:ext cx="9144000" cy="695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33160"/>
            <a:ext cx="7924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r (what is taught 4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and 9</a:t>
            </a:r>
            <a:r>
              <a:rPr b="0" lang="en-US" sz="3200" spc="-1" strike="noStrike" baseline="30000">
                <a:solidFill>
                  <a:srgbClr val="660066"/>
                </a:solidFill>
                <a:latin typeface="Arial"/>
              </a:rPr>
              <a:t>th—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Living Environment)—accelerate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09680"/>
            <a:ext cx="83818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ther and tools (temp., wind speed and direction, precipitation and water cycle, erosion and deposition, weath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s and seasonal changes (rotation vs. r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ties of material and chemical and physical changes, states of matter (Matter, mass, space, properties skills, reactivity and reflectiveness, sink/float, conductivity, magnetism, tools, observ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3:25:15Z</dcterms:created>
  <dc:creator>Monica Burgio</dc:creator>
  <dc:description/>
  <dc:language>en-US</dc:language>
  <cp:lastModifiedBy>Monica Daigler</cp:lastModifiedBy>
  <dcterms:modified xsi:type="dcterms:W3CDTF">2008-12-08T19:08:24Z</dcterms:modified>
  <cp:revision>9</cp:revision>
  <dc:subject/>
  <dc:title>Slide 1</dc:title>
</cp:coreProperties>
</file>