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495B-029E-4F21-BB75-B24ED37C0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8413-1C46-47CF-AF09-074D1FF3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5551-4485-4D72-BF81-B805CF826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9623-59A3-4B63-94AD-23A7D0C5B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AE67-2474-4426-9AC6-8F38B9352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4035-B987-4952-854A-A4E03837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082C-F664-43CE-8387-4F02FAA0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C20A-2A7B-4BD4-AFC3-69D221BF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7167-989C-4337-B3DA-4F4B8789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486C-8D1F-48F9-A508-FA187AD4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37CD-ACA2-4616-8836-93260147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4EBC-9181-4804-849D-8591F4F7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F8AF-A4F7-4E93-83E8-2ACAB067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ACDA-EB2A-4802-8A3A-B3B50C56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BCB0-1ABC-418C-A185-E7B5ECE7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51B5-244C-449E-B306-39C22772C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5027-9389-4A58-BE57-E9643430F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B1F8-3BAA-4BAD-9DEC-BB83998E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7558-0776-4FA6-BC19-C52FEFA7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DCB3-F6E0-4F66-81DA-CFB3FC53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006E-F3E7-4EA5-A32B-1354FCC0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A304-E0E0-4DC1-BFC6-57D4C283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19FF-142B-4015-A1E3-F6AC2661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6621-7BB1-438F-BD95-586D0654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BDEA-32F2-474A-AC8D-00DF51DB0C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4ED9-C894-49DC-9537-8C3A9D5128D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teachersnetwork.org/ntol/howto/science/analogies.htm" TargetMode="External"/><Relationship Id="rId2" Type="http://schemas.openxmlformats.org/officeDocument/2006/relationships/hyperlink" Target="http://www.scienceanalogies.info/webanalogylinks.html" TargetMode="External"/><Relationship Id="rId3" Type="http://schemas.openxmlformats.org/officeDocument/2006/relationships/hyperlink" Target="http://www.csun.edu/~vceed002/books/sourcebook/chapters/10-analogies/analogies.html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room Instruction that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Similarities and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 always wish students would includ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deeper analysi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n their writing.  Analogies can help students develop this 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Guiding Student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can be provided the complete analogy and must explain the relationship between the items in each pair, as well as the relationship between the two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  down:up::under: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provide a partial analogy and students must fill in the missing part and explain the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t the sites below and discuss with your group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1"/>
              </a:rPr>
              <a:t>http://teachersnetwork.org/ntol/howto/science/analogies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2"/>
              </a:rPr>
              <a:t>http://www.scienceanalogies.info/webanalogylinks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3"/>
              </a:rPr>
              <a:t>http://www.csun.edu/~vceed002/books/sourcebook/chapters/10-analogies/analogies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hecking your own understanding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the activity on paged 48-49 of your hand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Planning for Analogies Worksheet on page 51 and discuss with your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ho or what am I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he story on the colored pa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or what am I?  Write in the box on page 7 of learning pac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down three analogies that helped you and your thinking throughout the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 way to introduce literacy into your class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Brainstorm…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process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dentifying relationship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tween pairs of concepts.  Analogies help u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ke conne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tween things that seem very differ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way to look at is, you are identifying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lationships between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the reflection on page 43 of your workbook and share your thoughts with your group me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ly an analogy follows the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B::C: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- A is to B as C is to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ppy:Sad::Big: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ppy is to Sad as Big is to 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is bringing back SAT nightmares for anyone else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hat’s the Point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ogies can help explain an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unfamilia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pt by making a comparison to something that w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underst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Creating Analogies…Common Themes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similar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Memb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Name or Class Me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to Wh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tity/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page 45 for examples of 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need to be given concrete examples of these relationships so they can recognize the patt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they understand the structure of analogies, they can begin to discover the complexities of the relationships and create new analogies that explain different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61722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ell Analogy Project...I have included a sample project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logo graphic"/>
          <p:cNvPicPr/>
          <p:nvPr/>
        </p:nvPicPr>
        <p:blipFill>
          <a:blip r:embed="rId1"/>
          <a:srcRect l="23003" t="0" r="23589" b="0"/>
          <a:stretch/>
        </p:blipFill>
        <p:spPr>
          <a:xfrm>
            <a:off x="914400" y="914400"/>
            <a:ext cx="693432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457200"/>
            <a:ext cx="9144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dentifying Similarities and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1190520"/>
            <a:ext cx="7315200" cy="1373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raphic Organizer for the Abstract 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 Ana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666880"/>
            <a:ext cx="7238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2895480"/>
            <a:ext cx="23619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2895480"/>
            <a:ext cx="2362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4952880"/>
            <a:ext cx="2362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57800" y="4952880"/>
            <a:ext cx="2362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441972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85800" y="2936880"/>
            <a:ext cx="21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k Market Crash of 19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4120" y="2971800"/>
            <a:ext cx="21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5029200"/>
            <a:ext cx="215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sure to g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51400" y="5064120"/>
            <a:ext cx="21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91480" y="29718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20080" y="50292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20760" y="5029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2640" y="3962520"/>
            <a:ext cx="18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lation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733920"/>
            <a:ext cx="582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hing attacks a system and weakens 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ility to prevent serious affl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8:45:42Z</dcterms:created>
  <dc:creator>Erie 1 Staff-Mobile Labs</dc:creator>
  <dc:description/>
  <dc:language>en-US</dc:language>
  <cp:lastModifiedBy>Monica Daigler</cp:lastModifiedBy>
  <dcterms:modified xsi:type="dcterms:W3CDTF">2008-12-24T18:52:39Z</dcterms:modified>
  <cp:revision>8</cp:revision>
  <dc:subject/>
  <dc:title>Creating Analogies</dc:title>
</cp:coreProperties>
</file>