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F1A-2E73-422A-844E-AA8D01A8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2C6-7216-478C-BC06-427CC528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17F-9DF5-4510-BF5E-AF16245B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34D-1D5C-4A29-AD66-A5979D0E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6DC-77EC-4A47-9CDE-29FB8F74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0D2-C6D1-461C-BB02-182C0467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9F5-0A1D-4D2A-AED8-1EA3D4C3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79AF-1ADF-4C4F-8C15-9714C39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E4B4-1502-4026-B44F-72A7D3BA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52D6-541B-4FDB-8791-331C95BD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0110-55A6-4C3F-AA98-97A97DC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91E-273E-4046-A592-9777939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ADB-BA9D-4C33-8F7D-2A6910D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055D-FE3D-4C74-946B-F7451CF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B69-DF67-47C7-8BCC-D8FA641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90E9-1EB8-4F3F-98B3-E458F7C3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5666-8F00-466D-B92A-EE9462B9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610-084C-4262-992D-EC85A8C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36C-FDBD-49D5-8FD4-06C361B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E83-902F-43D1-80F2-8DFCDDD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AAC-D428-4D00-8E6E-EA770F70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928-0959-4A4B-97BF-790AF00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FB1-A115-4DF1-98B4-DF2145AA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CDD-B64A-43FB-9134-EDD65AF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3C9F-69A0-4426-A3C6-58B9743222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FA28-44AB-420A-832C-7257130AC1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ersnetwork.org/ntol/howto/science/analogies.htm" TargetMode="External"/><Relationship Id="rId2" Type="http://schemas.openxmlformats.org/officeDocument/2006/relationships/hyperlink" Target="http://www.scienceanalogies.info/webanalogylinks.html" TargetMode="External"/><Relationship Id="rId3" Type="http://schemas.openxmlformats.org/officeDocument/2006/relationships/hyperlink" Target="http://www.csun.edu/~vceed002/books/sourcebook/chapters/10-analogies/analogie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room Instruc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always wish students would include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eper analysi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n their writing.  Analogies can help students develop this 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uiding Stud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an be provided the complete analogy and must explain the relationship between the items in each pair, as well as the relationship between the tw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 down:up::under: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provide a partial analogy and students must fill in the missing part and explain th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the sites below and discuss with your grou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teachersnetwork.org/ntol/howto/science/analogies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://www.scienceanalogies.info/webanalogylink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http://www.csun.edu/~vceed002/books/sourcebook/chapters/10-analogies/analogi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hecking your own understand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activity on paged 48-49 of your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lanning for Analogies Worksheet on page 51 and discuss with you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o or what am I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story on the colored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or what am I?  Write in the box on page 7 of learning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three analogies that helped you and your thinking throughout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way to introduce literacy into your clas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rainstorm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ces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ying relationsh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pairs of concepts.  Analogies help u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e conne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things that seem very diffe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to look at is, you are identifyin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 betwee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eflection on page 43 of your workbook and share your thoughts with your group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n analogy follows th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- A is to B as C is t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:Sad::Big: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y is to Sad as Big is to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bringing back SAT nightmares for anyone els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’s the Point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ies can help explain 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famili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by making a comparison to something that w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Creating Analogies…Common Them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imilar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Name or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to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/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page 45 for examples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reating Analogi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need to be given concrete examples of these relationships so they can recognize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ey understand the structure of analogies, they can begin to discover the complexities of the relationships and create new analogies that explain diffe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172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l Analogy Project...I have included a sample projec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logo graphic"/>
          <p:cNvPicPr/>
          <p:nvPr/>
        </p:nvPicPr>
        <p:blipFill>
          <a:blip r:embed="rId1"/>
          <a:srcRect l="23003" t="0" r="23589" b="0"/>
          <a:stretch/>
        </p:blipFill>
        <p:spPr>
          <a:xfrm>
            <a:off x="914400" y="914400"/>
            <a:ext cx="69343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dentifying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90520"/>
            <a:ext cx="7315200" cy="137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aphic Organizer for the 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666880"/>
            <a:ext cx="723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895480"/>
            <a:ext cx="2361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8954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952880"/>
            <a:ext cx="2362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5800" y="29368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Market Crash of 1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5029200"/>
            <a:ext cx="21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ure to g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506412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480" y="297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0080" y="50292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076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2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733920"/>
            <a:ext cx="58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attacks a system and weakens 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prevent serious affl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8:45:42Z</dcterms:created>
  <dc:creator>Erie 1 Staff-Mobile Labs</dc:creator>
  <dc:description/>
  <dc:language>en-US</dc:language>
  <cp:lastModifiedBy>Monica Daigler</cp:lastModifiedBy>
  <dcterms:modified xsi:type="dcterms:W3CDTF">2008-12-24T18:52:39Z</dcterms:modified>
  <cp:revision>8</cp:revision>
  <dc:subject/>
  <dc:title>Creating Analogies</dc:title>
</cp:coreProperties>
</file>