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926263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3439-8B40-4AAF-83B8-D62518871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7530-2C55-4CA1-B45A-1BB1F1AA2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848E-11F6-4AB6-BDF6-E40A17B96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7B8B-7D26-480F-ADA0-E6E9C4367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DDD34-60F4-4FFA-B6C3-5D751F188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9F994-1C20-4B36-885B-FCC1C9FF8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15C1E-BAF8-4FC0-8990-8629C35D4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0BE5F-EA02-44CE-8137-3C25EB3DA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980ED-47DC-4B1C-9246-9ED9D525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7D0D7-6290-4EAD-A3B3-FBC73D5DE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B030F-AF2C-416B-8960-41A6D246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9DA9-34F3-4A0C-9E02-6A3A15BB6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148B6-A279-4A65-924E-C959E8B8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07D23-1584-4184-8CE6-7E7DBC35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BDABC-9E36-4536-9CE5-459C43B2E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025E5-850E-4032-88CE-6DFD7618E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8B97B-EE66-413B-99B8-ED91A740E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1CEB-BC19-4CC9-A52C-0012E8A1B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206F-8A30-4C6C-9ECB-A579B5176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6BF7-DDF9-410B-BC34-5D4300494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C567-9BED-4E6F-AB63-62EB701C8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AE91-93A6-4B6A-A1F1-CBF42DAB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BBAE-B0EB-4088-A668-69005A92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D54C-032A-491C-A928-1C7BF78A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03BE7-16E2-4ADA-ABCE-982340D0900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3D3F2-D3E1-429E-9C8A-253937E09FC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pd360.com/index.cfm?ContentId=131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Baskerville Old Face"/>
              </a:rPr>
              <a:t>Classify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33160" y="350532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Classroom Instruction that </a:t>
            </a:r>
            <a:r>
              <a:rPr b="1" i="1" lang="en-US" sz="3200" spc="-1" strike="noStrike">
                <a:solidFill>
                  <a:srgbClr val="000000"/>
                </a:solidFill>
                <a:latin typeface="Century Schoolbook"/>
              </a:rPr>
              <a:t>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dentifying Similarities and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askerville Old Face"/>
              </a:rPr>
              <a:t>Classify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way to classify with increased rigor, would be to give students a list of items and have them create and define their own groups and explain w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e example on next slide…students would need to create their own group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185640" y="0"/>
            <a:ext cx="29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Weather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57200" y="457200"/>
          <a:ext cx="8229600" cy="5811840"/>
        </p:xfrm>
        <a:graphic>
          <a:graphicData uri="http://schemas.openxmlformats.org/drawingml/2006/table">
            <a:tbl>
              <a:tblPr/>
              <a:tblGrid>
                <a:gridCol w="2779560"/>
                <a:gridCol w="2724480"/>
                <a:gridCol w="2725560"/>
              </a:tblGrid>
              <a:tr h="58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sor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iabatic cooling/hea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r m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emo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-cycl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o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m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u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d fro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u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ental air m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v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iolis ef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cl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w po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ation of insol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Ni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po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wind and pressure be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i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nhouse ef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ndwa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rrica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ol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ob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othe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t stre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Ni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ewa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itime air m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so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cluded fro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ograph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ar air m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pi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s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ychro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i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n gau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r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humid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1752480" y="2514240"/>
            <a:ext cx="5486400" cy="3886560"/>
            <a:chOff x="1752480" y="2514240"/>
            <a:chExt cx="5486400" cy="3886560"/>
          </a:xfrm>
        </p:grpSpPr>
        <p:sp>
          <p:nvSpPr>
            <p:cNvPr id="145" name=""/>
            <p:cNvSpPr/>
            <p:nvPr/>
          </p:nvSpPr>
          <p:spPr>
            <a:xfrm>
              <a:off x="3429000" y="5791320"/>
              <a:ext cx="609480" cy="60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2133720" y="2514240"/>
              <a:ext cx="16002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91120" y="2514600"/>
              <a:ext cx="19810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752480" y="327672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09880" y="426744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638680" y="419112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162920" y="411480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5638320" y="2971800"/>
              <a:ext cx="68580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77120" y="3124440"/>
              <a:ext cx="76176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0" y="457200"/>
            <a:ext cx="9144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dentifying Similarities and Dif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24960" y="1066680"/>
            <a:ext cx="5941440" cy="1068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11111"/>
                </a:solidFill>
                <a:latin typeface="Times New Roman"/>
              </a:rPr>
              <a:t>Graphic Organizer for Classif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76720" y="1981080"/>
            <a:ext cx="114300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2666880"/>
            <a:ext cx="114300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0400" y="3276720"/>
            <a:ext cx="114300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2438280"/>
            <a:ext cx="114300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4267080"/>
            <a:ext cx="60948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5257800"/>
            <a:ext cx="6094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5029200"/>
            <a:ext cx="6094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334120" y="4038480"/>
            <a:ext cx="609480" cy="2438640"/>
            <a:chOff x="5334120" y="4038480"/>
            <a:chExt cx="609480" cy="2438640"/>
          </a:xfrm>
        </p:grpSpPr>
        <p:sp>
          <p:nvSpPr>
            <p:cNvPr id="164" name=""/>
            <p:cNvSpPr/>
            <p:nvPr/>
          </p:nvSpPr>
          <p:spPr>
            <a:xfrm>
              <a:off x="5334120" y="4038480"/>
              <a:ext cx="60948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34120" y="4952880"/>
              <a:ext cx="60948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334120" y="5867280"/>
              <a:ext cx="60948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6858000" y="4038480"/>
            <a:ext cx="609480" cy="2438640"/>
            <a:chOff x="6858000" y="4038480"/>
            <a:chExt cx="609480" cy="2438640"/>
          </a:xfrm>
        </p:grpSpPr>
        <p:sp>
          <p:nvSpPr>
            <p:cNvPr id="168" name=""/>
            <p:cNvSpPr/>
            <p:nvPr/>
          </p:nvSpPr>
          <p:spPr>
            <a:xfrm>
              <a:off x="6858000" y="4038480"/>
              <a:ext cx="60948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58000" y="4952880"/>
              <a:ext cx="60948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858000" y="5867280"/>
              <a:ext cx="60948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8098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assify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ch the video clip on how these practices are used in different types of classro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http://www.pd360.com/index.cfm?ContentId=1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fornian FB"/>
              </a:rPr>
              <a:t>Checking your own understanding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omplete the activity on page 27 to check your own understanding of re-classifying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sto MT"/>
              </a:rPr>
              <a:t>Classify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Planning for Classifying Worksheet on page 29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with group members where a classifying activity might be useful in your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assify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e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roup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ings into definable categories based 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i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reflection on page 22 and discuss with your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fornian FB"/>
              </a:rPr>
              <a:t>Classify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How things are classified influences our perception and behavior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How are items in a grocery store classifi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What if they were classified by color, size, or pri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fornian FB"/>
              </a:rPr>
              <a:t>Classify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sto MT"/>
              </a:rPr>
              <a:t>Purposefully grouping</a:t>
            </a: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 items into different categories can give us a different perspective on those i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Thinking about what </a:t>
            </a:r>
            <a:r>
              <a:rPr b="0" lang="en-US" sz="3600" spc="-1" strike="noStrike">
                <a:solidFill>
                  <a:srgbClr val="ff0000"/>
                </a:solidFill>
                <a:latin typeface="Calisto MT"/>
              </a:rPr>
              <a:t>defines a particular group</a:t>
            </a: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 and </a:t>
            </a:r>
            <a:r>
              <a:rPr b="0" lang="en-US" sz="3600" spc="-1" strike="noStrike">
                <a:solidFill>
                  <a:srgbClr val="ff0000"/>
                </a:solidFill>
                <a:latin typeface="Calisto MT"/>
              </a:rPr>
              <a:t>why </a:t>
            </a: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an item fits into the group helps students to learn more about the content they are study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-1743120" y="-107640"/>
            <a:ext cx="12490560" cy="23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assifying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how are these items classified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2971800"/>
            <a:ext cx="1828800" cy="14479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09880" y="2971800"/>
            <a:ext cx="1676520" cy="1447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629400" y="3048120"/>
            <a:ext cx="2133720" cy="1218960"/>
          </a:xfrm>
          <a:prstGeom prst="parallelogram">
            <a:avLst>
              <a:gd name="adj" fmla="val 4376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4876920"/>
            <a:ext cx="533520" cy="685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52480" y="4800600"/>
            <a:ext cx="533520" cy="6858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19320" y="5638680"/>
            <a:ext cx="761760" cy="762120"/>
          </a:xfrm>
          <a:prstGeom prst="triangle">
            <a:avLst>
              <a:gd name="adj" fmla="val 50000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76920" y="4648320"/>
            <a:ext cx="761760" cy="761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4572000"/>
            <a:ext cx="914400" cy="91440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14800" y="5562720"/>
            <a:ext cx="9144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24480" y="5105520"/>
            <a:ext cx="990720" cy="838080"/>
          </a:xfrm>
          <a:prstGeom prst="parallelogram">
            <a:avLst>
              <a:gd name="adj" fmla="val 29553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391520" y="4648320"/>
            <a:ext cx="838080" cy="609480"/>
          </a:xfrm>
          <a:prstGeom prst="parallelogram">
            <a:avLst>
              <a:gd name="adj" fmla="val 343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543800" y="5410080"/>
            <a:ext cx="685800" cy="685800"/>
          </a:xfrm>
          <a:prstGeom prst="parallelogram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991520" y="304920"/>
            <a:ext cx="5020920" cy="23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assifying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hat about now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1905120"/>
            <a:ext cx="1828800" cy="14475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3505320"/>
            <a:ext cx="1676520" cy="1447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743200"/>
            <a:ext cx="2133720" cy="1219320"/>
          </a:xfrm>
          <a:prstGeom prst="parallelogram">
            <a:avLst>
              <a:gd name="adj" fmla="val 4374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38480" y="4724280"/>
            <a:ext cx="533520" cy="685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2438280"/>
            <a:ext cx="533160" cy="6858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400800" y="5029200"/>
            <a:ext cx="762120" cy="762120"/>
          </a:xfrm>
          <a:prstGeom prst="triangle">
            <a:avLst>
              <a:gd name="adj" fmla="val 50000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20120" y="1600200"/>
            <a:ext cx="761760" cy="762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248520" y="3886200"/>
            <a:ext cx="914400" cy="91440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52680" y="5486400"/>
            <a:ext cx="9144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38880" y="4267080"/>
            <a:ext cx="990720" cy="838440"/>
          </a:xfrm>
          <a:prstGeom prst="parallelogram">
            <a:avLst>
              <a:gd name="adj" fmla="val 29541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153280" y="2514600"/>
            <a:ext cx="838440" cy="609480"/>
          </a:xfrm>
          <a:prstGeom prst="parallelogram">
            <a:avLst>
              <a:gd name="adj" fmla="val 3439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495680" y="5562720"/>
            <a:ext cx="685800" cy="685800"/>
          </a:xfrm>
          <a:prstGeom prst="parallelogram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500"/>
                            </p:stCondLst>
                            <p:childTnLst>
                              <p:par>
                                <p:cTn id="1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500"/>
                            </p:stCondLst>
                            <p:childTnLst>
                              <p:par>
                                <p:cTn id="1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Times New Roman"/>
              </a:rPr>
              <a:t>Th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TEPS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111111"/>
                </a:solidFill>
                <a:latin typeface="Times New Roman"/>
              </a:rPr>
              <a:t>to Classifying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85800"/>
            <a:ext cx="9144000" cy="6172200"/>
          </a:xfrm>
          <a:prstGeom prst="rect">
            <a:avLst/>
          </a:prstGeom>
          <a:noFill/>
          <a:ln w="3816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295280"/>
            <a:ext cx="9144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Identify the items you want to classif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Select what seems to be an important item, describe key attributes and identify other items like it based on their attribu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 State the rule that describes membership in this categ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Select another item and identify others that are like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 Create the second category by stating the rule that describes membership in this categ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eat the previous two steps until all  items are classified and each category has a rule that describes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.  If necessary, combine categories or split them into smaller categories and state the rules for those catego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85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Grouping items into definable categories on the basis of their attrib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askerville Old Face"/>
              </a:rPr>
              <a:t>Classify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In the following example, students are given a list of science terms and have to sort them into 3 categories and then name the categories and how that category is defin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990720" y="1295280"/>
          <a:ext cx="7315200" cy="5257800"/>
        </p:xfrm>
        <a:graphic>
          <a:graphicData uri="http://schemas.openxmlformats.org/drawingml/2006/table">
            <a:tbl>
              <a:tblPr/>
              <a:tblGrid>
                <a:gridCol w="3148200"/>
                <a:gridCol w="1296360"/>
                <a:gridCol w="1388880"/>
                <a:gridCol w="1481760"/>
              </a:tblGrid>
              <a:tr h="5257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eb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g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a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r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d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ec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xyg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fis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rthwor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2011320" y="88920"/>
            <a:ext cx="553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ercise:  Powers of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assify the following into 3 groups.  Explain your thin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65560" y="857160"/>
            <a:ext cx="43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Group 1    Group2       Group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6400800"/>
            <a:ext cx="7685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4T16:05:16Z</dcterms:created>
  <dc:creator>Erie 1 Staff-Mobile Labs</dc:creator>
  <dc:description/>
  <dc:language>en-US</dc:language>
  <cp:lastModifiedBy>Monica Daigler</cp:lastModifiedBy>
  <dcterms:modified xsi:type="dcterms:W3CDTF">2008-12-15T16:30:09Z</dcterms:modified>
  <cp:revision>7</cp:revision>
  <dc:subject/>
  <dc:title>Classifying</dc:title>
</cp:coreProperties>
</file>