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DD1-38D4-4A83-BF80-336894FE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929-77BF-45A0-B93E-0B008E8C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81A-9E95-43E0-82D9-C02B86E6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EE4-08F4-4241-9F14-E02196AC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FD9F-9AB8-472D-A7AA-36E7E9EA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D3FB-0CB5-4490-BB65-0ADA8E11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1C89-4D39-488C-AE5F-ED9BEDB3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3D46-C768-4644-B78F-74F9366C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683E-04B6-49D4-B1CA-9890243B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36E0-D6FF-4C06-93DB-5D156F66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0384-C8A3-4995-A8AA-748280C6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DFA-4AA5-4AE9-9A99-C3F76077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C589-7C4F-4344-9DC0-BB67180F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1032-ACE0-4D7D-BB62-2279E960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E439-BBC0-4480-AF2C-C9E5A472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0980-6BF8-4A42-9B51-4B16688F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DA3D-DF18-4964-9180-995A5BBC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745-B8E2-44D3-96AC-D208609A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AF7-76EC-494B-A24C-7C874C52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CE3-48FA-407F-89D7-C2277C0D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4C2-7B1E-4F89-AFA0-253264E7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4EF-6D06-4BF5-840F-C51481C7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8D9-14C8-4213-B541-2357616D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47A-8DC3-4747-B801-11B1BACE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2846-F80D-4B51-88F8-38C21C3154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C51C-BCCC-46E5-82C6-0465690F0A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d360.com/index.cfm?ContentId=131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assroom Instruction that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ing Similarities and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to classify with increased rigor, would be to give students a list of items and have them create and define their own groups and explain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 example on next slide…students would need to create their own grou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185640" y="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Weathe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457200"/>
          <a:ext cx="8229600" cy="5811840"/>
        </p:xfrm>
        <a:graphic>
          <a:graphicData uri="http://schemas.openxmlformats.org/drawingml/2006/table">
            <a:tbl>
              <a:tblPr/>
              <a:tblGrid>
                <a:gridCol w="2779560"/>
                <a:gridCol w="2724480"/>
                <a:gridCol w="2725560"/>
              </a:tblGrid>
              <a:tr h="58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abatic cooling/he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cyc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u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iolis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w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 of inso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wind and pressure be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nd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o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b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the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 st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N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w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ime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luded fr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ograph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r air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ro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 gau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humi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752480" y="2514240"/>
            <a:ext cx="5486400" cy="3886560"/>
            <a:chOff x="1752480" y="2514240"/>
            <a:chExt cx="5486400" cy="3886560"/>
          </a:xfrm>
        </p:grpSpPr>
        <p:sp>
          <p:nvSpPr>
            <p:cNvPr id="145" name=""/>
            <p:cNvSpPr/>
            <p:nvPr/>
          </p:nvSpPr>
          <p:spPr>
            <a:xfrm>
              <a:off x="3429000" y="5791320"/>
              <a:ext cx="60948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133720" y="2514240"/>
              <a:ext cx="1600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2514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32767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4267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8680" y="419112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148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38320" y="2971800"/>
              <a:ext cx="6858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77120" y="3124440"/>
              <a:ext cx="7617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4960" y="1066680"/>
            <a:ext cx="594144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1111"/>
                </a:solidFill>
                <a:latin typeface="Times New Roman"/>
              </a:rPr>
              <a:t>Graphic Organizer for 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6668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7672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43828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4267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2578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0292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34120" y="4038480"/>
            <a:ext cx="609480" cy="2438640"/>
            <a:chOff x="5334120" y="4038480"/>
            <a:chExt cx="609480" cy="2438640"/>
          </a:xfrm>
        </p:grpSpPr>
        <p:sp>
          <p:nvSpPr>
            <p:cNvPr id="164" name=""/>
            <p:cNvSpPr/>
            <p:nvPr/>
          </p:nvSpPr>
          <p:spPr>
            <a:xfrm>
              <a:off x="533412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412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58000" y="4038480"/>
            <a:ext cx="609480" cy="2438640"/>
            <a:chOff x="6858000" y="4038480"/>
            <a:chExt cx="609480" cy="2438640"/>
          </a:xfrm>
        </p:grpSpPr>
        <p:sp>
          <p:nvSpPr>
            <p:cNvPr id="168" name=""/>
            <p:cNvSpPr/>
            <p:nvPr/>
          </p:nvSpPr>
          <p:spPr>
            <a:xfrm>
              <a:off x="6858000" y="40384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4952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0" y="58672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clip on how these practices are used in different types of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pd360.com/index.cfm?ContentId=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fornian FB"/>
              </a:rPr>
              <a:t>Checking your own understand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plete the activity on page 27 to check your own understanding of re-classify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sto MT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Planning for Classifying Worksheet on page 2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group members where a classifying activity might be useful in your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ou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gs into definable categories bas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flection on page 22 and discuss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things are classified influences our perception and behavio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How are items in a grocery store class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What if they were classified by color, size, or pr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fornian FB"/>
              </a:rPr>
              <a:t>Classif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Purposefully grouping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items into different categories can give us a different perspective on those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inking about what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defines a particular group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and </a:t>
            </a:r>
            <a:r>
              <a:rPr b="0" lang="en-US" sz="3600" spc="-1" strike="noStrike">
                <a:solidFill>
                  <a:srgbClr val="ff0000"/>
                </a:solidFill>
                <a:latin typeface="Calisto MT"/>
              </a:rPr>
              <a:t>why 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n item fits into the group helps students to learn more about the content they are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743120" y="-107640"/>
            <a:ext cx="1249056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ow are these items classifie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971800"/>
            <a:ext cx="1828800" cy="1447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971800"/>
            <a:ext cx="167652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048120"/>
            <a:ext cx="2133720" cy="1218960"/>
          </a:xfrm>
          <a:prstGeom prst="parallelogram">
            <a:avLst>
              <a:gd name="adj" fmla="val 437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87692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80060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638680"/>
            <a:ext cx="76176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648320"/>
            <a:ext cx="76176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5720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5562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105520"/>
            <a:ext cx="990720" cy="838080"/>
          </a:xfrm>
          <a:prstGeom prst="parallelogram">
            <a:avLst>
              <a:gd name="adj" fmla="val 29553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4648320"/>
            <a:ext cx="838080" cy="609480"/>
          </a:xfrm>
          <a:prstGeom prst="parallelogram">
            <a:avLst>
              <a:gd name="adj" fmla="val 343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541008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91520" y="304920"/>
            <a:ext cx="5020920" cy="23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ifyin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about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905120"/>
            <a:ext cx="1828800" cy="1447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505320"/>
            <a:ext cx="167652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743200"/>
            <a:ext cx="2133720" cy="1219320"/>
          </a:xfrm>
          <a:prstGeom prst="parallelogram">
            <a:avLst>
              <a:gd name="adj" fmla="val 437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4724280"/>
            <a:ext cx="53352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243828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5029200"/>
            <a:ext cx="762120" cy="762120"/>
          </a:xfrm>
          <a:prstGeom prst="triangle">
            <a:avLst>
              <a:gd name="adj" fmla="val 50000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16002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886200"/>
            <a:ext cx="9144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548640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267080"/>
            <a:ext cx="990720" cy="838440"/>
          </a:xfrm>
          <a:prstGeom prst="parallelogram">
            <a:avLst>
              <a:gd name="adj" fmla="val 29541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2514600"/>
            <a:ext cx="838440" cy="609480"/>
          </a:xfrm>
          <a:prstGeom prst="parallelogram">
            <a:avLst>
              <a:gd name="adj" fmla="val 3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562720"/>
            <a:ext cx="685800" cy="68580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S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111111"/>
                </a:solidFill>
                <a:latin typeface="Times New Roman"/>
              </a:rPr>
              <a:t>to Classifying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381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Identify the items you want to class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Select what seems to be an important item, describe key attributes and identify other items like it based on their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State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Select another item and identify others that are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reate the second category by stating the rule that describes membership in this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the previous two steps until all  items are classified and each category has a rule that describe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If necessary, combine categories or split them into smaller categories and state the rules for those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rouping items into definable categories on the basis of their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Classif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In the following example, students are given a list of science terms and have to sort them into 3 categories and then name the categories and how that category is defi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990720" y="1295280"/>
          <a:ext cx="7315200" cy="5257800"/>
        </p:xfrm>
        <a:graphic>
          <a:graphicData uri="http://schemas.openxmlformats.org/drawingml/2006/table">
            <a:tbl>
              <a:tblPr/>
              <a:tblGrid>
                <a:gridCol w="3148200"/>
                <a:gridCol w="1296360"/>
                <a:gridCol w="1388880"/>
                <a:gridCol w="148176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e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g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c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f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cccc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w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011320" y="8892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:  Power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ify the following into 3 groups.  Explain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5560" y="85716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oup 1    Group2       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6400800"/>
            <a:ext cx="768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6:05:16Z</dcterms:created>
  <dc:creator>Erie 1 Staff-Mobile Labs</dc:creator>
  <dc:description/>
  <dc:language>en-US</dc:language>
  <cp:lastModifiedBy>Monica Daigler</cp:lastModifiedBy>
  <dcterms:modified xsi:type="dcterms:W3CDTF">2008-12-15T16:30:09Z</dcterms:modified>
  <cp:revision>7</cp:revision>
  <dc:subject/>
  <dc:title>Classifying</dc:title>
</cp:coreProperties>
</file>